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F1A-8ECD-43EB-B71B-1558094A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5F6-4EFF-4165-96B2-D9E9B45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8E99C-2F30-4331-B7B6-87B69FF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9FEF4-513A-4CF3-887F-1A410E2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3CCD3-EC2F-408D-B05E-35D212F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AE16-02D0-43DF-B177-275BCD0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7FE9D-461A-47F2-874C-C050691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249C-8772-45B8-807C-2240FCA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0E7CF-F53F-4604-8A92-5B224E0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8FE27-D77D-417E-ACBF-5B78308E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17048-11FB-4876-A827-3EDF2ED6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7ADC-7EB6-4966-9B8C-5313915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73D-3EB7-444C-AE58-F1FB9FA1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84269-59FA-4929-A7D1-DA3242E0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62CAD-770C-445E-B222-DDD106C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95704-4E92-45B4-BF28-BC308EBE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87B35-4B3A-40D9-879A-E128895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C99D3-64EE-44F5-A7F3-9933E43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0B0DD-F220-45E0-B101-EA6182D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E7EFC-7F1B-4300-9266-AAF24DD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C0475-BD96-4FCB-82E1-B3B9B1E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A5CF7-DFBD-4E11-BE84-577C0E1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B4CCF-10AE-4748-806D-70DBF089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CA9-CD1C-4452-AF6E-D0813BFF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8E741-239E-4EE4-88AA-796B66F0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95FE-3980-4106-87D5-BF851049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59A66-830C-44B5-B4C8-CCACCE0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4F7CC-F0AC-41F1-95FB-DEC3B80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A7FA6-6776-4BFF-8155-B9273DC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BC61D-1A8B-4279-B79B-B484BC1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8B7D-0C70-4FA9-A1BF-595BF793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77A3-1098-4A55-9A76-D7DAA2D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ACFD-1B2C-44AF-9B6B-3735FA6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26F2-7D02-4F7A-AF8D-867E2DF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A53E-235C-4C7D-8744-C1F0EF2B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5B36-0E80-4889-81E5-B166FB5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F1614-56C7-4337-9982-B890E5E0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DC223-7866-487B-A148-915617D6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6436-F2B5-4027-A573-4796C31F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26DA-351E-4976-ADE0-59B9ADB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24E5B-DC19-4FED-9778-FE22FC2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F7852-FB18-4EF0-A8B4-758B721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E77BB-E6D4-4E46-A831-55E4686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C406E-8A5E-4E0B-B22A-420A1B3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0F8FA-77C6-44D2-93F9-C65F0BC4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14B7-2146-4895-9515-9D7BFBE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8A45A-B713-4D45-861E-0511835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D2740-0672-4EE9-97C7-C6AAA42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BEB00-E687-4107-823F-866CCF94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FF4FB-DF83-48F8-8C02-4A59B37C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D0C28-514F-490A-89CD-2445157D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BC114-64EC-4DD4-945E-2F239A1D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C46E6-F70E-4D7D-9C00-3EB69F0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EB4FD-6257-41CA-A8B5-7518C85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2E747-E3DE-4411-8CEA-483E240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81D38-2C12-479D-8EF6-AD11A66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B088-156A-4A90-940F-97DD7453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842DF-AD22-4AC0-9372-65468D7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399E7-1A72-4C01-A18C-00A1D8F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76F84-ECFB-4B28-A854-193823C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739A9-6192-4CCB-8920-334739D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230F1-BFFC-4B61-9EA6-CC627AA9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B0D26-B779-4B38-AAE3-27A11F87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855E0-AADD-4676-94D4-F10D09C2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50728-D388-4E81-8932-B261EDB5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47EB5-CB3E-4864-A496-5636CC72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A59B2-83B1-4068-8C3F-4D6B67D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B2C7-610F-4D87-9F33-D6A8F28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2E07C-D37B-4161-A576-1484942C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F3B4A-74E3-4360-BF2C-8C81707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B6968-D128-4655-B61E-35BB849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A39E4-25C3-4E52-9B69-EB056B8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0442D-CAC4-4EA7-9C50-585049F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D0AC5-A34F-40EC-A2A0-67DD4F8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C1560-99F2-45BC-8DF4-93ABF290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78028-D5C2-4E8C-B3E6-D7D1F6E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BAF8B-43C4-49B5-AC07-355E4306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7FA05-9656-47F5-81F5-73438F63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1CD5-FC39-4F24-B26C-6970E5C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41E83-D594-4169-BDCB-53BDF38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54706-2929-42EC-ADD5-10E63537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0E42D-2157-4D76-9EC5-B0240632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258A8-8871-4AD9-A644-B5869880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B10B1-B7B5-44A0-A06C-DC1DDC5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6C5EA-2C0A-436D-A224-D7D22FA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84BFA-6A33-43B0-ABC7-9F6DCE0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DCE63-3218-4E91-AC90-660C5F8A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E28BE-B7C4-4669-9A32-49E1D318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591AC-4B8A-4125-87D9-3EDCD35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7F4-8D0C-44A9-9607-0AA11E4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3F8AD-1685-46BD-8EA9-3F2CF7A5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AE944-CE13-4E75-89C9-087AF0DE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7F000-0462-4D87-AFB5-3E4C496F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5EF9C-95C1-463C-B068-9E3B611A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FBD4E-59E2-4F46-BAFC-C464961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93129-45C0-4FBD-B9A8-AA9A57E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1EBDE-F769-41C0-9E59-67559A4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F5F23-16CA-407A-993B-44F8344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92565-0146-4357-945E-B3B0258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29FB0-9281-4E2A-8F24-53E851D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694E-A8EB-40CD-ACAC-C5D36D5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4ECC5-B0B3-47A2-BBD6-3A87E49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FF479-A3A1-4A44-82E0-FC825828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66771-DB65-4BB3-8076-AADACEC8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FF57B-9ED6-4B87-BCC0-3B2AB037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FB40B-56D5-49DB-9E30-79497968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6F5FC-43F2-4D4C-A32A-E0E3217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78951-2E8C-4A85-A217-A0754F7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6E6C0-1879-48EB-AAC5-A6C6BA31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89813-A761-4CFB-8EF8-7341CFD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4598C-B1A7-450E-A9B6-76F8C58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487-0969-4B6A-8534-26B9FAA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CBE-FB95-4DAD-AAE6-4E5637A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FE5F0-8F7C-415C-B3DF-5A16CE1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57087-27F0-4C06-A92A-BAB26A1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29FD0-A22F-4608-9222-8F7FA9E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C29D2-1C94-4228-B3B5-1FB2EFFD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23DF8-4430-4582-80BF-A87355C4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7057D-8FB9-4E0F-A1C5-1A556BAF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27147-5183-4D1B-9944-D96D3CA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6CA5F-405F-43AF-9AFC-F150DE0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2302F-AC61-4508-A051-9F1B0564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61D72-2F72-4600-9F99-E5073C4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050C-4644-4DA3-9C75-51826757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F81C3-59A3-476D-B550-2792870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7E242-787E-4B76-B497-AC1C668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27FB7-8060-4EC6-B4A3-B781479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3E228-0956-47A3-99E2-2D291E0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29DA3-0162-4525-855F-1DDB2FD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5D07B-239E-49DB-B265-F3872254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0B512-8C25-40F3-8096-714E1E27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C18CB-DE53-4752-B7B4-A227AD2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79BF8-9AC1-4526-9A26-75975612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9472B-E617-4D51-959F-DDD35E46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0F5-F50A-45A7-BE6A-0F7297B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346F7-5C7C-43D7-B767-7525754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3950B-E0FD-439A-B7DA-2E10DC4C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62E36-63F3-4F87-B412-3D35E17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F92A3-891F-4538-9C71-5DB4782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4868E-5AAC-4F4B-9233-18F90DB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4C5FF-B1ED-41CF-99D1-167BFE3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21BF9-3AD6-46F3-B51E-7B63EDB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46B0A-FCB3-468D-BB23-28C635F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B9CA6-3531-42B7-B57E-E375B6B7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5BA0F-924E-49EA-A96B-F9C59A7B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88F7-CCC7-41FE-A922-E4AA390D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71E59-4593-4E48-914F-2BB60566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5E325-2110-4C5B-B204-0FAAECD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7E9AF-1B8A-412B-BF47-6151871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66A84-346E-428A-8EA6-9720D90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797A8-6F16-4FEC-B5EF-C5BEF6C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64044-2E40-4CA3-ACF0-DB7AF9F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9CE91-B4B9-49B6-8E2D-6662086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18602-C912-487C-B7DD-BB3C418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235CF-DD4A-42CF-A4AC-ED4E9D9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F1C47-FAE3-4349-820C-2E861DE0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5A11-DC4C-4097-BA96-08AC4AA5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87FF2-BBB7-4166-9EAA-7767503F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0DEF3-6801-40D4-A39A-18FD0DA0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6E968-029F-4A50-B881-BA4617D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6A289-F2DE-46A3-B25E-6664148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C6BBC-9102-49C4-A2FF-6C9800F6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8EE71-6107-4E08-9819-CBD30DD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F39BF-71D4-4DDE-A674-2A44634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0877D-35FD-4A09-94C1-F35AED7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A07C1-D13A-4E20-935A-10BF269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12CFB8-6E01-4C14-8384-22A8404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81C4-9DA8-4745-A50B-D0049157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19B72-34A6-4769-9031-6409E04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8B646-FA14-4A82-9810-91B323B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B6AC9-B7C5-4D7B-8DD9-F6556432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EEE3-E083-4DEC-AEDD-F08E175D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8536-5C8B-4EBE-B160-3C9F8195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5DA3-4C23-4A7C-BB95-0C6B147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E776-2003-49F1-A83A-4594666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C53-D2C9-4DD0-9D93-8E7A9E7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751A-19A1-4159-82F9-DB654BF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5FB8-BFF3-4B09-A23C-6CCBE00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A901-FA17-4B43-AFF1-446DD66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92DF-BA22-4C3F-BC1E-79BF45A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AC1D-3445-4BE0-B36C-25081B3D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6E0D-EB6C-491C-9361-364E0461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41DD-9224-43F1-9CAD-DB558764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8FD5-10A6-4EC1-9CEB-53F561B7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7055-A202-4D3B-9570-2E3C6DD3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127D-12DF-4885-B938-00E741A2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32A-FCE8-461C-8BEC-11C0CE3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1055-C4FC-4111-98AA-E3A8D78B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574E-892C-43AE-A1F6-B1924506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68D2-B162-4B2D-AC14-9331B40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75B1-9E48-4971-BF7F-1238054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3773-AF10-44E6-AD92-0FF6267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54B6-E7E3-4A94-BF6C-654CAF2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A7FA-F555-4E03-87AE-38EE883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A6CF-0A36-4C6E-9987-6F263300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E789-A489-470F-BAAD-C73F3B11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5C14-55B3-47C9-8C06-B22D8A01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9D9-F89B-4E84-90D7-25200A7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175A-AF96-4353-B46D-74B6CFDD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4AD0-F160-4E5A-829E-A423D752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9F5B-87E7-4D7B-B1C5-86DA31E6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EE3A-D3C2-48B3-AD1C-4D5D3103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4B3D-A86A-4F07-AD25-69B5663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2260-423C-43A2-9F51-B741B86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178A6-C4D8-47BF-94C0-2043ABC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1EDF-3233-4E5C-B91A-4242FEA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EA74-F55C-412F-9F83-845467D4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9CC2-906D-4135-ABC1-8D4679F7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111-2456-4611-AD5E-78BA7A12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7AAF-6933-4376-BE75-79942484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2BEA-49F2-4B1D-BEB2-E6554672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7885-C5AE-4251-8BD9-F79A4CBB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077A-68D1-4177-ACE5-8CE2BFD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0595-8B11-4244-8305-7F6E20A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C2408-EC5D-40D7-A89B-0F5C3F3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E0DE-92DB-42E5-B03F-F55CA99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C2BB-11D3-49B0-8F0E-45FDBED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AEEA-6546-4FC7-B292-62C571A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E18D-DCDB-448D-BA8B-57E5F36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A31-ADCC-44ED-9008-92D0142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0ED9-652A-4D4A-BE23-255B193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457D5-568B-4103-A002-FBF87916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A00B-137E-4201-AAEF-3C323A58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F5658-9B73-48D1-9422-D80239E8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756B-370D-41DB-BEA4-D204C65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46545-8B58-4E1C-8587-74F18868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6775-1281-49B8-9979-415EB5A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B046D-CAE8-4D6C-8008-0E39385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96041-8DF5-4DEB-9C66-C8F967D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2613-306E-4987-87A9-48F57CA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9AD-786C-42E0-B5DD-AC4EFEB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02F3-2F82-4B43-A335-6634777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F25B-0FBC-4B86-9504-80F4FEB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B1A2-2E4C-4B02-A105-728E975D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849C3-425F-48BF-9797-41A5622F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C6A5-F67E-4D8F-AAE2-FEF21DDF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004F-9832-4391-9E5F-C1F9C596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DCA2-BC72-473B-838E-9E06BA7D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7606-04B5-44E7-8124-082D9BF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EEFDB-5722-42F4-A311-A9BDCD7B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9763-46D7-4F4A-9D4A-42F6F916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0B4-CB64-47FF-ABE6-CEC7B27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E891-5C37-42C7-A33D-BE5B1D2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D7E00-147C-47DB-82B0-038BDCB1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6F26-D86D-4A44-BC47-F160A7D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061C-7157-48F9-A96D-FC17D4C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21E1-F470-4167-9628-E29081E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6931-E4A9-4AC3-9EEE-134D8583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0BCF-FDC0-4299-A3F8-592D7ACD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32D8D-9FFA-414D-B88C-C7A91D3C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28152-A338-47D7-A079-87A59841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1ED8-5F2C-4A84-B2F0-1069F35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F39-6CD6-459A-A36F-C4CC35C9B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982D-111F-4D28-ABE6-8B967DF0A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D52-7F9C-4709-9CBA-606BDAC8F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4CA1-DFCC-44B5-9FFF-166C68B1E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325-9D43-4459-9716-8BC72148B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0060-C403-4438-8198-9AEEC5BE9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037-6D91-4975-83D0-1EF8ED033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ACAD-5197-4FA9-9B26-3C08396C3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D95-38A4-437D-B087-54169972D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B65-491B-43E8-A062-33351485A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C358-A152-4F44-8379-B036797BD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92A0-B776-45EE-93FC-47FC62501E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0B8-8A73-4DF1-B5F0-CD3DDC3ED0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E97C-105C-47EB-9324-B361450F6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FBE5-F1A0-45B7-AD29-66AC18A3A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894-D211-4C91-8B24-E60D6A93B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80A-9B19-4F28-82D3-1A4E859C6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2D38-4F66-4E94-B143-48BADE661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85B-2D9B-414E-9920-8F24006ED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100-B5C3-428E-940C-8DAABCF10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06C-421B-43D1-9941-945A7998D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1FA-E007-4757-A886-B2F8B026E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CBCB-709A-4FAC-BE7C-77374CE4F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2F6-DB95-4D7B-8EB8-34BB24865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5B4-B99E-46DF-BD6A-52CB66A83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0B75-01F3-440D-837C-3579299AF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D8B7-A309-445D-AB87-CACAE3AEE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7A7-4969-4BAE-BB3A-D12120FA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B8B4-2F2A-4EAD-AB36-2FB1F6D19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023-D6A0-4271-9D0E-093491C65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EC8-5439-49F0-B335-02B6013EB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8D6-C89F-4550-9851-86345708A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8AC-B972-4BF1-B58A-C2913E417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C190-55EF-40F7-8095-04FE698B5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E3B-89AC-433C-9964-8D61B9609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B2A-00E9-46B8-B89D-DE2FA62130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828-01C2-41F3-9264-46C1E9FDA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3ACD-06DA-4291-983B-D6B5066B0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9AE8-2AF1-4982-9975-8BDC18E69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FB1A-D818-41CF-BA63-41C5997A5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100240" y="2919240"/>
            <a:ext cx="494352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57280" y="961920"/>
            <a:ext cx="80294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519120" y="871560"/>
            <a:ext cx="8105760" cy="51148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857160" y="4143240"/>
            <a:ext cx="57168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785880" y="5072040"/>
            <a:ext cx="5713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857160" y="5643720"/>
            <a:ext cx="57168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96040" cy="575316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857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1285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1785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928800" y="27860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928800" y="3786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928800" y="4714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928800" y="5643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63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248680" cy="1143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8134200" cy="47055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857160" y="3286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857160" y="4714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471600" y="814320"/>
            <a:ext cx="8200800" cy="522936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857160" y="928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857160" y="2357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857160" y="3714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05560" cy="61437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857160" y="21430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857160" y="3071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857160" y="4000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857160" y="50007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857160" y="5857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6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